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885-F0C9-411A-9C51-1A53B38A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098-3CA5-4BEA-A437-A4012BC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F75-E42D-4ADE-8596-819F6206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BE8-CB3F-442E-BE11-97D2615C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B1A-763F-49CE-AA15-4976728F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475-EF6D-458C-824F-19734EBC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9BC-2392-4702-B6A2-08DDD82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CBE-8B52-439F-BB15-3C8AC7F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F35-022F-462B-A410-FBB2D598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D7C-20C3-461D-B2FA-2A64291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7AA-20D6-458F-AACA-BFA77CE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102-6446-4774-A018-21B4AA8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004-9A63-4D50-8E5E-764004F52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394920"/>
            <a:ext cx="685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e heißen diese Worten auf Englis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3276720"/>
            <a:ext cx="5257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ß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le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elgroß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r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l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üchter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n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s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1187280"/>
            <a:ext cx="547344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s Auge (die Augen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e N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s Ohr (die Ohren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Zahn (die Zähn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Stoßzahn (die  Stoßzähn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Hor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Pel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9000" y="8675640"/>
            <a:ext cx="2995920" cy="185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88995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d by H. Butter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13000" y="8028000"/>
            <a:ext cx="4114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20:11:24Z</dcterms:created>
  <dc:creator>Helena</dc:creator>
  <dc:description/>
  <dc:language>en-US</dc:language>
  <cp:lastModifiedBy>staff</cp:lastModifiedBy>
  <dcterms:modified xsi:type="dcterms:W3CDTF">2009-04-01T08:52:08Z</dcterms:modified>
  <cp:revision>5</cp:revision>
  <dc:subject/>
  <dc:title>Slide 1</dc:title>
</cp:coreProperties>
</file>